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6.wmf" ContentType="image/x-wmf"/>
  <Override PartName="/ppt/media/image79.png" ContentType="image/png"/>
  <Override PartName="/ppt/media/image31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63.png" ContentType="image/png"/>
  <Override PartName="/ppt/media/image24.wmf" ContentType="image/x-wmf"/>
  <Override PartName="/ppt/media/image67.png" ContentType="image/png"/>
  <Override PartName="/ppt/media/image64.png" ContentType="image/png"/>
  <Override PartName="/ppt/media/image66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71.wmf" ContentType="image/x-wmf"/>
  <Override PartName="/ppt/media/image70.png" ContentType="image/png"/>
  <Override PartName="/ppt/media/image72.png" ContentType="image/png"/>
  <Override PartName="/ppt/media/image7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76.wmf" ContentType="image/x-wmf"/>
  <Override PartName="/ppt/media/image88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6A8-B596-468F-B7E8-EDEC01F8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975-2E72-46A3-95A9-6C407A1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B41-65BC-4B09-AF99-058F6890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BD5-F342-413B-AEB7-469A1AF3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5D0-8EBE-45CB-92B9-BE8CF9C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800-6376-462C-99D3-67AC4D7C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111-F965-4632-AAEF-4590511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B45-7A5C-4217-88DC-5E36975F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015-3321-4834-8119-F3ECA28B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DE7-5946-41F0-BF35-872D6BD4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357-C653-4E28-BCDC-659DF48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1A8-8729-401E-81AD-D6FAA988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2865-19F6-4E18-A077-167C1912F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5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1.jpeg"/><Relationship Id="rId3" Type="http://schemas.openxmlformats.org/officeDocument/2006/relationships/image" Target="../media/image5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image" Target="../media/image8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38480" y="4648320"/>
                <a:ext cx="476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505320" y="2514600"/>
                <a:ext cx="1536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581280" y="2057400"/>
          <a:ext cx="1524240" cy="84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57400"/>
                    <a:ext cx="1524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77920" y="87480"/>
            <a:ext cx="4518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OF BASIC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3880" y="5176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76304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8" name=""/>
          <p:cNvGraphicFramePr/>
          <p:nvPr/>
        </p:nvGraphicFramePr>
        <p:xfrm>
          <a:off x="533520" y="1523880"/>
          <a:ext cx="304560" cy="2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3880"/>
                    <a:ext cx="3045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0" name=""/>
          <p:cNvGrpSpPr/>
          <p:nvPr/>
        </p:nvGrpSpPr>
        <p:grpSpPr>
          <a:xfrm>
            <a:off x="990720" y="1447920"/>
            <a:ext cx="4419360" cy="476280"/>
            <a:chOff x="990720" y="1447920"/>
            <a:chExt cx="4419360" cy="476280"/>
          </a:xfrm>
        </p:grpSpPr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990720" y="1447920"/>
              <a:ext cx="2724120" cy="476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42" name=""/>
            <p:cNvGraphicFramePr/>
            <p:nvPr/>
          </p:nvGraphicFramePr>
          <p:xfrm>
            <a:off x="4267080" y="1473120"/>
            <a:ext cx="11430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1473120"/>
                      <a:ext cx="11430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4" name=""/>
          <p:cNvGrpSpPr/>
          <p:nvPr/>
        </p:nvGrpSpPr>
        <p:grpSpPr>
          <a:xfrm>
            <a:off x="292680" y="2209680"/>
            <a:ext cx="6403320" cy="428760"/>
            <a:chOff x="292680" y="2209680"/>
            <a:chExt cx="6403320" cy="428760"/>
          </a:xfrm>
        </p:grpSpPr>
        <p:sp>
          <p:nvSpPr>
            <p:cNvPr id="645" name=""/>
            <p:cNvSpPr/>
            <p:nvPr/>
          </p:nvSpPr>
          <p:spPr>
            <a:xfrm>
              <a:off x="292680" y="2270160"/>
              <a:ext cx="138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7"/>
            <a:stretch/>
          </p:blipFill>
          <p:spPr>
            <a:xfrm>
              <a:off x="1828800" y="2209680"/>
              <a:ext cx="4867200" cy="42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" descr=""/>
          <p:cNvPicPr/>
          <p:nvPr/>
        </p:nvPicPr>
        <p:blipFill>
          <a:blip r:embed="rId8"/>
          <a:stretch/>
        </p:blipFill>
        <p:spPr>
          <a:xfrm>
            <a:off x="2286000" y="2666880"/>
            <a:ext cx="4448160" cy="120996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401040" y="4038480"/>
            <a:ext cx="4390200" cy="524160"/>
            <a:chOff x="401040" y="4038480"/>
            <a:chExt cx="4390200" cy="524160"/>
          </a:xfrm>
        </p:grpSpPr>
        <p:sp>
          <p:nvSpPr>
            <p:cNvPr id="649" name=""/>
            <p:cNvSpPr/>
            <p:nvPr/>
          </p:nvSpPr>
          <p:spPr>
            <a:xfrm>
              <a:off x="401040" y="4175280"/>
              <a:ext cx="1451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9"/>
            <a:stretch/>
          </p:blipFill>
          <p:spPr>
            <a:xfrm>
              <a:off x="2209680" y="4038480"/>
              <a:ext cx="258156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"/>
          <p:cNvGrpSpPr/>
          <p:nvPr/>
        </p:nvGrpSpPr>
        <p:grpSpPr>
          <a:xfrm>
            <a:off x="2209680" y="4572000"/>
            <a:ext cx="4819680" cy="1616760"/>
            <a:chOff x="2209680" y="4572000"/>
            <a:chExt cx="4819680" cy="1616760"/>
          </a:xfrm>
        </p:grpSpPr>
        <p:pic>
          <p:nvPicPr>
            <p:cNvPr id="652" name="" descr=""/>
            <p:cNvPicPr/>
            <p:nvPr/>
          </p:nvPicPr>
          <p:blipFill>
            <a:blip r:embed="rId10"/>
            <a:stretch/>
          </p:blipFill>
          <p:spPr>
            <a:xfrm>
              <a:off x="2209680" y="4572000"/>
              <a:ext cx="48196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3686040" y="5851440"/>
              <a:ext cx="27122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plies reactive power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562880" cy="9525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971640" y="3048120"/>
            <a:ext cx="7410240" cy="942840"/>
          </a:xfrm>
          <a:prstGeom prst="rect">
            <a:avLst/>
          </a:prstGeom>
          <a:ln w="0">
            <a:noFill/>
          </a:ln>
        </p:spPr>
      </p:pic>
      <p:grpSp>
        <p:nvGrpSpPr>
          <p:cNvPr id="660" name=""/>
          <p:cNvGrpSpPr/>
          <p:nvPr/>
        </p:nvGrpSpPr>
        <p:grpSpPr>
          <a:xfrm>
            <a:off x="789840" y="3962520"/>
            <a:ext cx="4087080" cy="857160"/>
            <a:chOff x="789840" y="3962520"/>
            <a:chExt cx="4087080" cy="857160"/>
          </a:xfrm>
        </p:grpSpPr>
        <p:sp>
          <p:nvSpPr>
            <p:cNvPr id="661" name=""/>
            <p:cNvSpPr/>
            <p:nvPr/>
          </p:nvSpPr>
          <p:spPr>
            <a:xfrm>
              <a:off x="789840" y="4175280"/>
              <a:ext cx="120636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1981080" y="3962520"/>
              <a:ext cx="1285920" cy="857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3" name=""/>
            <p:cNvGraphicFramePr/>
            <p:nvPr/>
          </p:nvGraphicFramePr>
          <p:xfrm>
            <a:off x="3352680" y="4125960"/>
            <a:ext cx="1524240" cy="44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25960"/>
                      <a:ext cx="152424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4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75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7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0" y="4724280"/>
                <a:ext cx="54100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89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94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9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8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1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726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1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733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5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0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63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8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69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7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78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0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2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84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89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0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1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2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3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94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803" name="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41920" y="112680"/>
            <a:ext cx="2487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320" y="457200"/>
          <a:ext cx="90676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9067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2962080" y="136440"/>
            <a:ext cx="468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conomic Impact of 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-46440" y="1066680"/>
            <a:ext cx="9190440" cy="357480"/>
            <a:chOff x="-46440" y="1066680"/>
            <a:chExt cx="9190440" cy="357480"/>
          </a:xfrm>
        </p:grpSpPr>
        <p:sp>
          <p:nvSpPr>
            <p:cNvPr id="820" name=""/>
            <p:cNvSpPr/>
            <p:nvPr/>
          </p:nvSpPr>
          <p:spPr>
            <a:xfrm>
              <a:off x="-46440" y="1066680"/>
              <a:ext cx="2355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ing Cond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2438280" y="1066680"/>
              <a:ext cx="6705720" cy="35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2" name="" descr=""/>
          <p:cNvPicPr/>
          <p:nvPr/>
        </p:nvPicPr>
        <p:blipFill>
          <a:blip r:embed="rId4"/>
          <a:stretch/>
        </p:blipFill>
        <p:spPr>
          <a:xfrm>
            <a:off x="76320" y="1455840"/>
            <a:ext cx="9067680" cy="8874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5181480" y="1752480"/>
            <a:ext cx="39625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2362320"/>
            <a:ext cx="16002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-98640" y="2422440"/>
            <a:ext cx="9242640" cy="337320"/>
            <a:chOff x="-98640" y="2422440"/>
            <a:chExt cx="9242640" cy="337320"/>
          </a:xfrm>
        </p:grpSpPr>
        <p:sp>
          <p:nvSpPr>
            <p:cNvPr id="827" name=""/>
            <p:cNvSpPr/>
            <p:nvPr/>
          </p:nvSpPr>
          <p:spPr>
            <a:xfrm>
              <a:off x="-98640" y="2422440"/>
              <a:ext cx="2931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Monthly Utility B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" descr=""/>
            <p:cNvPicPr/>
            <p:nvPr/>
          </p:nvPicPr>
          <p:blipFill>
            <a:blip r:embed="rId5"/>
            <a:stretch/>
          </p:blipFill>
          <p:spPr>
            <a:xfrm>
              <a:off x="2743200" y="2446200"/>
              <a:ext cx="6400800" cy="3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"/>
          <p:cNvGrpSpPr/>
          <p:nvPr/>
        </p:nvGrpSpPr>
        <p:grpSpPr>
          <a:xfrm>
            <a:off x="1371600" y="2743200"/>
            <a:ext cx="6534000" cy="1123920"/>
            <a:chOff x="1371600" y="2743200"/>
            <a:chExt cx="6534000" cy="1123920"/>
          </a:xfrm>
        </p:grpSpPr>
        <p:pic>
          <p:nvPicPr>
            <p:cNvPr id="830" name="" descr=""/>
            <p:cNvPicPr/>
            <p:nvPr/>
          </p:nvPicPr>
          <p:blipFill>
            <a:blip r:embed="rId6"/>
            <a:stretch/>
          </p:blipFill>
          <p:spPr>
            <a:xfrm>
              <a:off x="1371600" y="2743200"/>
              <a:ext cx="65340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7"/>
            <a:stretch/>
          </p:blipFill>
          <p:spPr>
            <a:xfrm>
              <a:off x="1676520" y="3581280"/>
              <a:ext cx="55432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"/>
          <p:cNvGrpSpPr/>
          <p:nvPr/>
        </p:nvGrpSpPr>
        <p:grpSpPr>
          <a:xfrm>
            <a:off x="99720" y="4175280"/>
            <a:ext cx="8044200" cy="1396800"/>
            <a:chOff x="99720" y="4175280"/>
            <a:chExt cx="8044200" cy="1396800"/>
          </a:xfrm>
        </p:grpSpPr>
        <p:sp>
          <p:nvSpPr>
            <p:cNvPr id="833" name=""/>
            <p:cNvSpPr/>
            <p:nvPr/>
          </p:nvSpPr>
          <p:spPr>
            <a:xfrm>
              <a:off x="99720" y="4175280"/>
              <a:ext cx="2184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rrecting to pf=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8"/>
            <a:stretch/>
          </p:blipFill>
          <p:spPr>
            <a:xfrm>
              <a:off x="1523880" y="4495680"/>
              <a:ext cx="66200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231120" y="5181480"/>
              <a:ext cx="2274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demand char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6" name="" descr=""/>
            <p:cNvPicPr/>
            <p:nvPr/>
          </p:nvPicPr>
          <p:blipFill>
            <a:blip r:embed="rId9"/>
            <a:stretch/>
          </p:blipFill>
          <p:spPr>
            <a:xfrm>
              <a:off x="2666880" y="5181480"/>
              <a:ext cx="349596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"/>
          <p:cNvGrpSpPr/>
          <p:nvPr/>
        </p:nvGrpSpPr>
        <p:grpSpPr>
          <a:xfrm>
            <a:off x="198360" y="5607000"/>
            <a:ext cx="8896320" cy="977760"/>
            <a:chOff x="198360" y="5607000"/>
            <a:chExt cx="8896320" cy="977760"/>
          </a:xfrm>
        </p:grpSpPr>
        <p:sp>
          <p:nvSpPr>
            <p:cNvPr id="838" name=""/>
            <p:cNvSpPr/>
            <p:nvPr/>
          </p:nvSpPr>
          <p:spPr>
            <a:xfrm>
              <a:off x="245520" y="5607000"/>
              <a:ext cx="6284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ergy charge due to capacitor bank is 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8360" y="6004080"/>
              <a:ext cx="88963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nthly savings are approx $1853 per month! A reasonable capacitor bank should p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self in about a 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10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029280" cy="175284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438280" y="2400480"/>
                <a:ext cx="215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529920" y="243828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8" name=""/>
          <p:cNvGrpSpPr/>
          <p:nvPr/>
        </p:nvGrpSpPr>
        <p:grpSpPr>
          <a:xfrm>
            <a:off x="76320" y="3443400"/>
            <a:ext cx="3581280" cy="290520"/>
            <a:chOff x="76320" y="34434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49" name=""/>
                <p:cNvSpPr txBox="1"/>
                <p:nvPr/>
              </p:nvSpPr>
              <p:spPr>
                <a:xfrm>
                  <a:off x="76320" y="34434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1155600" y="34434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82440" y="374796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736720" y="382428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95400" y="443376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4495680" y="451008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23960" y="527220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52280" y="572940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819520" y="580536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65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2" dur="indefinite" restart="never" nodeType="tmRoot">
          <p:childTnLst>
            <p:seq>
              <p:cTn id="2203" dur="indefinite" nodeType="mainSeq">
                <p:childTnLst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78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82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87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91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97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910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1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4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7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918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9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1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939" name="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961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67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68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1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6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0" dur="indefinite" restart="never" nodeType="tmRoot">
          <p:childTnLst>
            <p:seq>
              <p:cTn id="2441" dur="indefinite" nodeType="mainSeq">
                <p:childTnLst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4" dur="indefinite" restart="never" nodeType="tmRoot">
          <p:childTnLst>
            <p:seq>
              <p:cTn id="2485" dur="indefinite" nodeType="mainSeq">
                <p:childTnLst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9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96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1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1015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1022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3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4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1034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1035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7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1049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1052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4" dur="indefinite" restart="never" nodeType="tmRoot">
          <p:childTnLst>
            <p:seq>
              <p:cTn id="2565" dur="indefinite" nodeType="mainSeq">
                <p:childTnLst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66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8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69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84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5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6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87" name="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90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1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93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94" name="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97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98" name="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0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24440" cy="239076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73440" y="0"/>
            <a:ext cx="2487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882880" y="60480"/>
            <a:ext cx="4857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YER HEATING AND TEMPERATUR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2676600" cy="66672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3"/>
          <a:stretch/>
        </p:blipFill>
        <p:spPr>
          <a:xfrm>
            <a:off x="3295800" y="1066680"/>
            <a:ext cx="4171680" cy="4669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3198240" y="1660680"/>
            <a:ext cx="5827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mperature is controlled by disconnecting the h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nd letting it cool of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6248520" cy="289728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5"/>
          <a:stretch/>
        </p:blipFill>
        <p:spPr>
          <a:xfrm>
            <a:off x="152280" y="5181480"/>
            <a:ext cx="6019920" cy="998640"/>
          </a:xfrm>
          <a:prstGeom prst="rect">
            <a:avLst/>
          </a:prstGeom>
          <a:ln w="0">
            <a:noFill/>
          </a:ln>
        </p:spPr>
      </p:pic>
      <p:grpSp>
        <p:nvGrpSpPr>
          <p:cNvPr id="1112" name=""/>
          <p:cNvGrpSpPr/>
          <p:nvPr/>
        </p:nvGrpSpPr>
        <p:grpSpPr>
          <a:xfrm>
            <a:off x="1393920" y="2530440"/>
            <a:ext cx="2749680" cy="1862280"/>
            <a:chOff x="1393920" y="2530440"/>
            <a:chExt cx="2749680" cy="1862280"/>
          </a:xfrm>
        </p:grpSpPr>
        <p:sp>
          <p:nvSpPr>
            <p:cNvPr id="1113" name=""/>
            <p:cNvSpPr/>
            <p:nvPr/>
          </p:nvSpPr>
          <p:spPr>
            <a:xfrm>
              <a:off x="1393920" y="2668680"/>
              <a:ext cx="2428920" cy="1724040"/>
            </a:xfrm>
            <a:custGeom>
              <a:avLst/>
              <a:gdLst/>
              <a:ahLst/>
              <a:rect l="l" t="t" r="r" b="b"/>
              <a:pathLst>
                <a:path w="1530" h="1086">
                  <a:moveTo>
                    <a:pt x="1058" y="1038"/>
                  </a:moveTo>
                  <a:cubicBezTo>
                    <a:pt x="1131" y="1033"/>
                    <a:pt x="1204" y="1032"/>
                    <a:pt x="1275" y="1010"/>
                  </a:cubicBezTo>
                  <a:cubicBezTo>
                    <a:pt x="1294" y="1004"/>
                    <a:pt x="1313" y="997"/>
                    <a:pt x="1332" y="991"/>
                  </a:cubicBezTo>
                  <a:cubicBezTo>
                    <a:pt x="1353" y="984"/>
                    <a:pt x="1388" y="953"/>
                    <a:pt x="1388" y="953"/>
                  </a:cubicBezTo>
                  <a:cubicBezTo>
                    <a:pt x="1421" y="904"/>
                    <a:pt x="1443" y="874"/>
                    <a:pt x="1464" y="821"/>
                  </a:cubicBezTo>
                  <a:cubicBezTo>
                    <a:pt x="1482" y="712"/>
                    <a:pt x="1460" y="811"/>
                    <a:pt x="1492" y="727"/>
                  </a:cubicBezTo>
                  <a:cubicBezTo>
                    <a:pt x="1513" y="672"/>
                    <a:pt x="1520" y="605"/>
                    <a:pt x="1530" y="547"/>
                  </a:cubicBezTo>
                  <a:cubicBezTo>
                    <a:pt x="1525" y="511"/>
                    <a:pt x="1520" y="442"/>
                    <a:pt x="1502" y="406"/>
                  </a:cubicBezTo>
                  <a:cubicBezTo>
                    <a:pt x="1405" y="210"/>
                    <a:pt x="1236" y="159"/>
                    <a:pt x="1048" y="85"/>
                  </a:cubicBezTo>
                  <a:cubicBezTo>
                    <a:pt x="1013" y="71"/>
                    <a:pt x="979" y="54"/>
                    <a:pt x="944" y="38"/>
                  </a:cubicBezTo>
                  <a:cubicBezTo>
                    <a:pt x="874" y="7"/>
                    <a:pt x="769" y="5"/>
                    <a:pt x="699" y="0"/>
                  </a:cubicBezTo>
                  <a:cubicBezTo>
                    <a:pt x="555" y="6"/>
                    <a:pt x="467" y="11"/>
                    <a:pt x="340" y="38"/>
                  </a:cubicBezTo>
                  <a:cubicBezTo>
                    <a:pt x="293" y="60"/>
                    <a:pt x="291" y="77"/>
                    <a:pt x="255" y="113"/>
                  </a:cubicBezTo>
                  <a:cubicBezTo>
                    <a:pt x="236" y="161"/>
                    <a:pt x="195" y="201"/>
                    <a:pt x="180" y="245"/>
                  </a:cubicBezTo>
                  <a:cubicBezTo>
                    <a:pt x="166" y="285"/>
                    <a:pt x="176" y="266"/>
                    <a:pt x="151" y="302"/>
                  </a:cubicBezTo>
                  <a:cubicBezTo>
                    <a:pt x="139" y="339"/>
                    <a:pt x="128" y="356"/>
                    <a:pt x="95" y="377"/>
                  </a:cubicBezTo>
                  <a:cubicBezTo>
                    <a:pt x="73" y="410"/>
                    <a:pt x="66" y="434"/>
                    <a:pt x="38" y="462"/>
                  </a:cubicBezTo>
                  <a:cubicBezTo>
                    <a:pt x="28" y="501"/>
                    <a:pt x="18" y="530"/>
                    <a:pt x="0" y="566"/>
                  </a:cubicBezTo>
                  <a:cubicBezTo>
                    <a:pt x="3" y="623"/>
                    <a:pt x="2" y="680"/>
                    <a:pt x="10" y="736"/>
                  </a:cubicBezTo>
                  <a:cubicBezTo>
                    <a:pt x="17" y="790"/>
                    <a:pt x="65" y="844"/>
                    <a:pt x="95" y="887"/>
                  </a:cubicBezTo>
                  <a:cubicBezTo>
                    <a:pt x="126" y="931"/>
                    <a:pt x="136" y="983"/>
                    <a:pt x="180" y="1020"/>
                  </a:cubicBezTo>
                  <a:cubicBezTo>
                    <a:pt x="212" y="1047"/>
                    <a:pt x="255" y="1067"/>
                    <a:pt x="293" y="1086"/>
                  </a:cubicBezTo>
                  <a:cubicBezTo>
                    <a:pt x="540" y="1079"/>
                    <a:pt x="627" y="1077"/>
                    <a:pt x="831" y="1029"/>
                  </a:cubicBezTo>
                  <a:cubicBezTo>
                    <a:pt x="878" y="1032"/>
                    <a:pt x="926" y="1030"/>
                    <a:pt x="973" y="1038"/>
                  </a:cubicBezTo>
                  <a:cubicBezTo>
                    <a:pt x="984" y="1040"/>
                    <a:pt x="990" y="1059"/>
                    <a:pt x="1001" y="1057"/>
                  </a:cubicBezTo>
                  <a:cubicBezTo>
                    <a:pt x="1063" y="1044"/>
                    <a:pt x="1058" y="990"/>
                    <a:pt x="1058" y="10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52400" y="2530440"/>
              <a:ext cx="24912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ary power to thermo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e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452760" y="3192480"/>
            <a:ext cx="5860080" cy="2225520"/>
            <a:chOff x="3452760" y="3192480"/>
            <a:chExt cx="5860080" cy="2225520"/>
          </a:xfrm>
        </p:grpSpPr>
        <p:sp>
          <p:nvSpPr>
            <p:cNvPr id="1116" name=""/>
            <p:cNvSpPr/>
            <p:nvPr/>
          </p:nvSpPr>
          <p:spPr>
            <a:xfrm>
              <a:off x="5971320" y="3276720"/>
              <a:ext cx="3341520" cy="946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emperature from dryer is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the one from thermostat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pen switch and allow heater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ol 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52760" y="3192480"/>
              <a:ext cx="5735520" cy="2225520"/>
            </a:xfrm>
            <a:custGeom>
              <a:avLst/>
              <a:gdLst/>
              <a:ahLst/>
              <a:rect l="l" t="t" r="r" b="b"/>
              <a:pathLst>
                <a:path w="3613" h="1402">
                  <a:moveTo>
                    <a:pt x="932" y="1001"/>
                  </a:moveTo>
                  <a:cubicBezTo>
                    <a:pt x="944" y="965"/>
                    <a:pt x="960" y="934"/>
                    <a:pt x="969" y="897"/>
                  </a:cubicBezTo>
                  <a:cubicBezTo>
                    <a:pt x="967" y="869"/>
                    <a:pt x="973" y="738"/>
                    <a:pt x="941" y="690"/>
                  </a:cubicBezTo>
                  <a:cubicBezTo>
                    <a:pt x="903" y="633"/>
                    <a:pt x="870" y="610"/>
                    <a:pt x="818" y="567"/>
                  </a:cubicBezTo>
                  <a:cubicBezTo>
                    <a:pt x="783" y="538"/>
                    <a:pt x="785" y="519"/>
                    <a:pt x="733" y="501"/>
                  </a:cubicBezTo>
                  <a:cubicBezTo>
                    <a:pt x="652" y="472"/>
                    <a:pt x="563" y="457"/>
                    <a:pt x="478" y="444"/>
                  </a:cubicBezTo>
                  <a:cubicBezTo>
                    <a:pt x="391" y="450"/>
                    <a:pt x="279" y="445"/>
                    <a:pt x="195" y="472"/>
                  </a:cubicBezTo>
                  <a:cubicBezTo>
                    <a:pt x="134" y="513"/>
                    <a:pt x="67" y="562"/>
                    <a:pt x="25" y="623"/>
                  </a:cubicBezTo>
                  <a:cubicBezTo>
                    <a:pt x="0" y="703"/>
                    <a:pt x="2" y="789"/>
                    <a:pt x="63" y="850"/>
                  </a:cubicBezTo>
                  <a:cubicBezTo>
                    <a:pt x="92" y="966"/>
                    <a:pt x="140" y="1065"/>
                    <a:pt x="195" y="1171"/>
                  </a:cubicBezTo>
                  <a:cubicBezTo>
                    <a:pt x="212" y="1204"/>
                    <a:pt x="215" y="1242"/>
                    <a:pt x="233" y="1275"/>
                  </a:cubicBezTo>
                  <a:cubicBezTo>
                    <a:pt x="276" y="1353"/>
                    <a:pt x="328" y="1375"/>
                    <a:pt x="412" y="1388"/>
                  </a:cubicBezTo>
                  <a:cubicBezTo>
                    <a:pt x="454" y="1402"/>
                    <a:pt x="484" y="1388"/>
                    <a:pt x="526" y="1379"/>
                  </a:cubicBezTo>
                  <a:cubicBezTo>
                    <a:pt x="557" y="1372"/>
                    <a:pt x="620" y="1360"/>
                    <a:pt x="620" y="1360"/>
                  </a:cubicBezTo>
                  <a:cubicBezTo>
                    <a:pt x="654" y="1335"/>
                    <a:pt x="684" y="1317"/>
                    <a:pt x="724" y="1303"/>
                  </a:cubicBezTo>
                  <a:cubicBezTo>
                    <a:pt x="733" y="1294"/>
                    <a:pt x="741" y="1282"/>
                    <a:pt x="752" y="1275"/>
                  </a:cubicBezTo>
                  <a:cubicBezTo>
                    <a:pt x="760" y="1269"/>
                    <a:pt x="773" y="1272"/>
                    <a:pt x="781" y="1266"/>
                  </a:cubicBezTo>
                  <a:cubicBezTo>
                    <a:pt x="813" y="1240"/>
                    <a:pt x="824" y="1194"/>
                    <a:pt x="847" y="1162"/>
                  </a:cubicBezTo>
                  <a:cubicBezTo>
                    <a:pt x="855" y="1151"/>
                    <a:pt x="867" y="1144"/>
                    <a:pt x="875" y="1133"/>
                  </a:cubicBezTo>
                  <a:cubicBezTo>
                    <a:pt x="896" y="1103"/>
                    <a:pt x="901" y="1069"/>
                    <a:pt x="922" y="1039"/>
                  </a:cubicBezTo>
                  <a:cubicBezTo>
                    <a:pt x="928" y="1009"/>
                    <a:pt x="935" y="953"/>
                    <a:pt x="951" y="926"/>
                  </a:cubicBezTo>
                  <a:cubicBezTo>
                    <a:pt x="984" y="868"/>
                    <a:pt x="1064" y="804"/>
                    <a:pt x="1111" y="756"/>
                  </a:cubicBezTo>
                  <a:cubicBezTo>
                    <a:pt x="1167" y="699"/>
                    <a:pt x="1211" y="637"/>
                    <a:pt x="1281" y="595"/>
                  </a:cubicBezTo>
                  <a:cubicBezTo>
                    <a:pt x="1308" y="556"/>
                    <a:pt x="1345" y="529"/>
                    <a:pt x="1375" y="491"/>
                  </a:cubicBezTo>
                  <a:cubicBezTo>
                    <a:pt x="1405" y="452"/>
                    <a:pt x="1430" y="408"/>
                    <a:pt x="1460" y="369"/>
                  </a:cubicBezTo>
                  <a:cubicBezTo>
                    <a:pt x="1488" y="287"/>
                    <a:pt x="1550" y="151"/>
                    <a:pt x="1640" y="123"/>
                  </a:cubicBezTo>
                  <a:cubicBezTo>
                    <a:pt x="1683" y="59"/>
                    <a:pt x="1769" y="72"/>
                    <a:pt x="1838" y="66"/>
                  </a:cubicBezTo>
                  <a:cubicBezTo>
                    <a:pt x="2017" y="6"/>
                    <a:pt x="1875" y="46"/>
                    <a:pt x="2282" y="57"/>
                  </a:cubicBezTo>
                  <a:cubicBezTo>
                    <a:pt x="2483" y="70"/>
                    <a:pt x="2480" y="75"/>
                    <a:pt x="2726" y="66"/>
                  </a:cubicBezTo>
                  <a:cubicBezTo>
                    <a:pt x="2833" y="45"/>
                    <a:pt x="2711" y="74"/>
                    <a:pt x="2820" y="29"/>
                  </a:cubicBezTo>
                  <a:cubicBezTo>
                    <a:pt x="2851" y="16"/>
                    <a:pt x="2884" y="11"/>
                    <a:pt x="2915" y="0"/>
                  </a:cubicBezTo>
                  <a:cubicBezTo>
                    <a:pt x="2997" y="8"/>
                    <a:pt x="3070" y="27"/>
                    <a:pt x="3151" y="38"/>
                  </a:cubicBezTo>
                  <a:cubicBezTo>
                    <a:pt x="3273" y="77"/>
                    <a:pt x="3404" y="61"/>
                    <a:pt x="3528" y="95"/>
                  </a:cubicBezTo>
                  <a:cubicBezTo>
                    <a:pt x="3559" y="115"/>
                    <a:pt x="3583" y="140"/>
                    <a:pt x="3613" y="161"/>
                  </a:cubicBezTo>
                  <a:cubicBezTo>
                    <a:pt x="3602" y="298"/>
                    <a:pt x="3567" y="488"/>
                    <a:pt x="3491" y="605"/>
                  </a:cubicBezTo>
                  <a:cubicBezTo>
                    <a:pt x="3486" y="612"/>
                    <a:pt x="3427" y="641"/>
                    <a:pt x="3424" y="642"/>
                  </a:cubicBezTo>
                  <a:cubicBezTo>
                    <a:pt x="3352" y="674"/>
                    <a:pt x="3285" y="681"/>
                    <a:pt x="3207" y="690"/>
                  </a:cubicBezTo>
                  <a:cubicBezTo>
                    <a:pt x="3036" y="745"/>
                    <a:pt x="2812" y="715"/>
                    <a:pt x="2660" y="718"/>
                  </a:cubicBezTo>
                  <a:cubicBezTo>
                    <a:pt x="2528" y="715"/>
                    <a:pt x="2395" y="713"/>
                    <a:pt x="2263" y="708"/>
                  </a:cubicBezTo>
                  <a:cubicBezTo>
                    <a:pt x="2172" y="704"/>
                    <a:pt x="2080" y="680"/>
                    <a:pt x="1989" y="671"/>
                  </a:cubicBezTo>
                  <a:cubicBezTo>
                    <a:pt x="1914" y="620"/>
                    <a:pt x="1972" y="652"/>
                    <a:pt x="1791" y="6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3911760" y="2249640"/>
            <a:ext cx="5187240" cy="1123920"/>
            <a:chOff x="3911760" y="2249640"/>
            <a:chExt cx="5187240" cy="1123920"/>
          </a:xfrm>
        </p:grpSpPr>
        <p:sp>
          <p:nvSpPr>
            <p:cNvPr id="1119" name=""/>
            <p:cNvSpPr/>
            <p:nvPr/>
          </p:nvSpPr>
          <p:spPr>
            <a:xfrm>
              <a:off x="3911760" y="2249640"/>
              <a:ext cx="2158920" cy="1123920"/>
            </a:xfrm>
            <a:custGeom>
              <a:avLst/>
              <a:gdLst/>
              <a:ahLst/>
              <a:rect l="l" t="t" r="r" b="b"/>
              <a:pathLst>
                <a:path w="1360" h="708">
                  <a:moveTo>
                    <a:pt x="1105" y="604"/>
                  </a:moveTo>
                  <a:cubicBezTo>
                    <a:pt x="1168" y="541"/>
                    <a:pt x="1200" y="494"/>
                    <a:pt x="1219" y="405"/>
                  </a:cubicBezTo>
                  <a:cubicBezTo>
                    <a:pt x="1216" y="374"/>
                    <a:pt x="1216" y="342"/>
                    <a:pt x="1209" y="311"/>
                  </a:cubicBezTo>
                  <a:cubicBezTo>
                    <a:pt x="1199" y="270"/>
                    <a:pt x="1154" y="247"/>
                    <a:pt x="1124" y="217"/>
                  </a:cubicBezTo>
                  <a:cubicBezTo>
                    <a:pt x="1087" y="180"/>
                    <a:pt x="1048" y="162"/>
                    <a:pt x="1001" y="141"/>
                  </a:cubicBezTo>
                  <a:cubicBezTo>
                    <a:pt x="975" y="129"/>
                    <a:pt x="951" y="116"/>
                    <a:pt x="926" y="103"/>
                  </a:cubicBezTo>
                  <a:cubicBezTo>
                    <a:pt x="912" y="96"/>
                    <a:pt x="894" y="98"/>
                    <a:pt x="879" y="94"/>
                  </a:cubicBezTo>
                  <a:cubicBezTo>
                    <a:pt x="790" y="70"/>
                    <a:pt x="705" y="53"/>
                    <a:pt x="614" y="37"/>
                  </a:cubicBezTo>
                  <a:cubicBezTo>
                    <a:pt x="523" y="0"/>
                    <a:pt x="436" y="10"/>
                    <a:pt x="340" y="18"/>
                  </a:cubicBezTo>
                  <a:cubicBezTo>
                    <a:pt x="276" y="30"/>
                    <a:pt x="217" y="53"/>
                    <a:pt x="152" y="65"/>
                  </a:cubicBezTo>
                  <a:cubicBezTo>
                    <a:pt x="106" y="95"/>
                    <a:pt x="70" y="113"/>
                    <a:pt x="38" y="160"/>
                  </a:cubicBezTo>
                  <a:cubicBezTo>
                    <a:pt x="32" y="180"/>
                    <a:pt x="12" y="196"/>
                    <a:pt x="10" y="217"/>
                  </a:cubicBezTo>
                  <a:cubicBezTo>
                    <a:pt x="0" y="352"/>
                    <a:pt x="46" y="380"/>
                    <a:pt x="142" y="453"/>
                  </a:cubicBezTo>
                  <a:cubicBezTo>
                    <a:pt x="153" y="461"/>
                    <a:pt x="159" y="474"/>
                    <a:pt x="170" y="481"/>
                  </a:cubicBezTo>
                  <a:cubicBezTo>
                    <a:pt x="175" y="484"/>
                    <a:pt x="236" y="500"/>
                    <a:pt x="237" y="500"/>
                  </a:cubicBezTo>
                  <a:cubicBezTo>
                    <a:pt x="272" y="510"/>
                    <a:pt x="306" y="525"/>
                    <a:pt x="340" y="538"/>
                  </a:cubicBezTo>
                  <a:cubicBezTo>
                    <a:pt x="436" y="575"/>
                    <a:pt x="522" y="621"/>
                    <a:pt x="624" y="641"/>
                  </a:cubicBezTo>
                  <a:cubicBezTo>
                    <a:pt x="695" y="689"/>
                    <a:pt x="814" y="695"/>
                    <a:pt x="898" y="708"/>
                  </a:cubicBezTo>
                  <a:cubicBezTo>
                    <a:pt x="963" y="701"/>
                    <a:pt x="1000" y="694"/>
                    <a:pt x="1058" y="679"/>
                  </a:cubicBezTo>
                  <a:cubicBezTo>
                    <a:pt x="1123" y="636"/>
                    <a:pt x="1093" y="648"/>
                    <a:pt x="1143" y="632"/>
                  </a:cubicBezTo>
                  <a:cubicBezTo>
                    <a:pt x="1190" y="562"/>
                    <a:pt x="1167" y="593"/>
                    <a:pt x="1209" y="538"/>
                  </a:cubicBezTo>
                  <a:cubicBezTo>
                    <a:pt x="1247" y="424"/>
                    <a:pt x="1222" y="517"/>
                    <a:pt x="1238" y="320"/>
                  </a:cubicBezTo>
                  <a:cubicBezTo>
                    <a:pt x="1241" y="279"/>
                    <a:pt x="1237" y="235"/>
                    <a:pt x="1256" y="198"/>
                  </a:cubicBezTo>
                  <a:cubicBezTo>
                    <a:pt x="1272" y="166"/>
                    <a:pt x="1332" y="169"/>
                    <a:pt x="1360" y="1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37920" y="2270160"/>
              <a:ext cx="3061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fety switch in cas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1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49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150" name="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2" dur="indefinite" restart="never" nodeType="tmRoot">
          <p:childTnLst>
            <p:seq>
              <p:cTn id="2733" dur="indefinite" nodeType="mainSeq">
                <p:childTnLst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83040" y="3581280"/>
                <a:ext cx="3733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324480" y="419112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Jorge Aravena</cp:lastModifiedBy>
  <dcterms:modified xsi:type="dcterms:W3CDTF">2004-09-19T13:00:09Z</dcterms:modified>
  <cp:revision>17</cp:revision>
  <dc:subject/>
  <dc:title>No Slide Title</dc:title>
</cp:coreProperties>
</file>